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3248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33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-360" y="8832600"/>
            <a:ext cx="295596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600"/>
            <a:ext cx="295596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00383-52F9-43B8-8FF4-4DEEE1DA3E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0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0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2969-7B24-4704-9A0B-2BFA5CBE3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360" y="31863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4DB8-B83C-4427-B2BB-489EB8B6C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712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6E6E-16C7-41D6-B68F-4191496F0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400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28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36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400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28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F1B-83F0-464B-981B-11FD8E603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F9FD-06A6-46F4-BDA5-2E6ACEBC0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B340-DFAD-4B75-B20B-3A6EFE209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004D-F2D1-4C41-A2CD-B23E0B592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1545-6635-4DBE-B76B-D9B3A54F2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360" y="379080"/>
            <a:ext cx="638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A796-B32A-4789-A6B3-CB722C514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8176-EF13-44A7-92D5-631C76F47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712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3F70-3FB3-495D-8AF9-94C666879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B3C4-33B5-4CDE-8220-DBD8B1180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-1461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150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285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461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69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6394F-DF1E-48A1-9C53-BE08DAF57CE0}" type="slidenum"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49220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Propagation d’épidémie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la Rougeole à l'Unil-EPFL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av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01080" y="580536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5838-872F-4878-B670-FC8A6542DF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br>
              <a:rPr sz="37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(conditions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000" y="1447920"/>
            <a:ext cx="662940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itions initi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S(t=0) = 2500 dont 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00 (U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00 (EPF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I(t=0) = 2 et R(t=0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(t=tf)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nombre totale d'infectés = 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odèle perfectionn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3673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 y=f(x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= 0.008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=0.00023295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=2/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=0.95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=0.050905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(t&gt;=14 &amp; t&lt;=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 -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 + 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 -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 +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197000"/>
            <a:ext cx="42116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8920" y="1537920"/>
            <a:ext cx="63882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ul d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personne sera isolée en moyenne 6 jours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être susceptible de transmettre le virus. Le taux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uérison est donc de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herche d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x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recherche les valeurs les plus proch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réalité à l’aide de la formule suiv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37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UNI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12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t le plus peti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132000" y="4076640"/>
            <a:ext cx="3529080" cy="722520"/>
            <a:chOff x="3132000" y="4076640"/>
            <a:chExt cx="3529080" cy="722520"/>
          </a:xfrm>
        </p:grpSpPr>
        <p:sp>
          <p:nvSpPr>
            <p:cNvPr id="109" name=""/>
            <p:cNvSpPr/>
            <p:nvPr/>
          </p:nvSpPr>
          <p:spPr>
            <a:xfrm>
              <a:off x="3132000" y="4076640"/>
              <a:ext cx="3527640" cy="720720"/>
            </a:xfrm>
            <a:prstGeom prst="rect">
              <a:avLst/>
            </a:prstGeom>
            <a:gradFill rotWithShape="0">
              <a:gsLst>
                <a:gs pos="0">
                  <a:srgbClr val="ef11c5"/>
                </a:gs>
                <a:gs pos="100000">
                  <a:srgbClr val="f7a3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2000" y="4076640"/>
              <a:ext cx="352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2000" y="4797360"/>
              <a:ext cx="352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4076640"/>
              <a:ext cx="180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59640" y="4076640"/>
              <a:ext cx="144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03280" y="1413000"/>
            <a:ext cx="3119400" cy="3598560"/>
            <a:chOff x="1403280" y="1413000"/>
            <a:chExt cx="3119400" cy="3598560"/>
          </a:xfrm>
        </p:grpSpPr>
        <p:sp>
          <p:nvSpPr>
            <p:cNvPr id="116" name=""/>
            <p:cNvSpPr/>
            <p:nvPr/>
          </p:nvSpPr>
          <p:spPr>
            <a:xfrm>
              <a:off x="3521160" y="47480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.26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35120" y="47480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03280" y="47480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21160" y="4486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3.7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5120" y="4486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3280" y="4486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21160" y="4222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5120" y="4222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3280" y="4222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1160" y="3960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35120" y="3960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3280" y="3960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1160" y="3699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35120" y="3699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03280" y="3699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34369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3.2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35120" y="34369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3280" y="34369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1160" y="31748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6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5120" y="31748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280" y="31748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1160" y="291132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7.8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35120" y="291132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3280" y="291132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26496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.0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5120" y="26496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03280" y="26496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1160" y="2462040"/>
              <a:ext cx="10000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6.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35120" y="2462040"/>
              <a:ext cx="986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3280" y="2462040"/>
              <a:ext cx="11318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1160" y="2200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72.5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35120" y="2200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3280" y="2200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1160" y="1936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99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5120" y="1936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3280" y="1936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1160" y="1674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7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5120" y="1674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1674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21160" y="1413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5120" y="1413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3280" y="1413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3280" y="141300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03280" y="501012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3280" y="1413000"/>
              <a:ext cx="180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240" y="1413000"/>
              <a:ext cx="144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003640" y="1484280"/>
            <a:ext cx="3119760" cy="3602160"/>
            <a:chOff x="5003640" y="1484280"/>
            <a:chExt cx="3119760" cy="3602160"/>
          </a:xfrm>
        </p:grpSpPr>
        <p:sp>
          <p:nvSpPr>
            <p:cNvPr id="164" name=""/>
            <p:cNvSpPr/>
            <p:nvPr/>
          </p:nvSpPr>
          <p:spPr>
            <a:xfrm>
              <a:off x="7121520" y="4859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1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5840" y="4859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8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03640" y="4859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32958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1520" y="46339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5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5840" y="46339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03640" y="46339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21520" y="44085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5840" y="44085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03640" y="44085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1520" y="41832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2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5840" y="41832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9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03640" y="41832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1520" y="395460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35840" y="395460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395460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21520" y="372888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0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5840" y="372888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3640" y="372888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1520" y="35035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3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35840" y="35035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03640" y="35035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1520" y="32781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4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5840" y="32781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03640" y="32781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1520" y="30528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8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30528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3640" y="30528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1520" y="28274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35840" y="28274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28274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21520" y="26020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2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5840" y="26020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26020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1520" y="237636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8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5840" y="237636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03640" y="237636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21520" y="214956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48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35840" y="214956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0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03640" y="214956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1520" y="1935000"/>
              <a:ext cx="1000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8.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35840" y="1935000"/>
              <a:ext cx="985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03640" y="1935000"/>
              <a:ext cx="1132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21520" y="17096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8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17096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3640" y="17096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1520" y="1484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35840" y="1484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3640" y="1484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3640" y="148428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3640" y="508464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364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2160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odélisation des flux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élisation des flux des person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645000"/>
            <a:ext cx="5761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010040" cy="1199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19280" y="3357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calcul des flux se fait également à l’aide de la formule précé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aramètres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63878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 u et v de la vacc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dS/d(t) = - v S(t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c t= 19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= -log (S(t)/2500) / 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(19)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= 0.0509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 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Dynamique des population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40360" cy="3036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865680" cy="302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8880" y="486900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65480" y="2963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637800" y="3107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75960" y="479736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Effet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1640" y="5761080"/>
            <a:ext cx="17290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4360" y="1619280"/>
            <a:ext cx="8675640" cy="3658680"/>
            <a:chOff x="144360" y="1619280"/>
            <a:chExt cx="8675640" cy="36586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746600" y="1619280"/>
              <a:ext cx="4073400" cy="34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69720" y="1619280"/>
              <a:ext cx="40356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882800" y="5067360"/>
              <a:ext cx="738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ma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61000" y="5067360"/>
              <a:ext cx="738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ma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3477240" y="3270240"/>
              <a:ext cx="2472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personnes infect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-1216800" y="3007440"/>
              <a:ext cx="29336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personnes infect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90320" y="1341360"/>
            <a:ext cx="2402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4040" y="1341360"/>
            <a:ext cx="2407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2700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0000" y="4500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1979640"/>
            <a:ext cx="162072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71640" y="4500720"/>
            <a:ext cx="8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0000" y="450072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9640" y="2160720"/>
            <a:ext cx="162108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2000" y="3240000"/>
            <a:ext cx="8287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360" y="324000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0360" y="39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0000" y="32400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0000" y="2160720"/>
            <a:ext cx="360360" cy="18072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-14616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ésence sur site que 5 jours su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nir compte des flux extéri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4360" y="42336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74360" y="1447920"/>
            <a:ext cx="63882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’épidémie actu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6880" indent="0" algn="ctr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’évalu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efficacité de la campagne de vaccin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2133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07664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72360" y="5805360"/>
            <a:ext cx="9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B971-C973-4C51-BEE3-635A75870D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’épidémi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1687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’épidémi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qu’est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c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épidémie signi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ugmentation rapid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’incidence d’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thologie en un li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sur un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n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11640" y="1557360"/>
            <a:ext cx="4608360" cy="3379320"/>
            <a:chOff x="4211640" y="1557360"/>
            <a:chExt cx="4608360" cy="337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4211640" y="1557360"/>
              <a:ext cx="46083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506920" y="4726080"/>
              <a:ext cx="17290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4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j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59640" y="2924280"/>
            <a:ext cx="378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modèle SIR permet de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79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ualiser graphiquement la propagation d’une maladie au sein d’un espace clos et son é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79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'évaluer et prévoir les risques d'épidémie, sa durée ainsi que son pic d'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71364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S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personn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aines susceptibl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 contracter la mal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s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nfect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mmunis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u décéd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564804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36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1700280"/>
            <a:ext cx="3203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 : indice de virul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: indice de gué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2565360"/>
            <a:ext cx="252360" cy="1800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fectionnement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713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avons optimiser le modèle de manière à 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 considé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flux des personn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qui se déplacent entre les sites d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L-EPF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 campagne de vaccin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du lundi 23 mars au vendredi 11 avril soit 19 j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nnées acquis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br>
              <a:rPr sz="37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(choix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472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i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Espace clos, divisé en 2 sites ave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Intervalle d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Une semaine = 7 jours de 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Un dose suffit pour être vacci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Pas de période d'incu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5-6 jours pour être mis en quaran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Uniquement les 10% initialement no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ccinées son pris en compte dans no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dier Languetin</cp:lastModifiedBy>
  <cp:revision>0</cp:revision>
  <dc:subject/>
  <dc:title>Présentation PowerPoint</dc:title>
</cp:coreProperties>
</file>